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833-5AB5-4864-92DD-0FDD2977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B61-E5C7-403D-84B1-2746D39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3BB36-3240-42C4-9477-C120812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F263E-E055-49F3-9D4D-FDF12D8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B8734-E610-4F54-8F2E-4A2AEBB7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A71B1-BD86-4531-8BD0-E6F15EA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7BC7B-4ED9-46E5-A144-34DA7762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D29AD-E4EB-421B-B4C9-D9DE995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E4FA5-C451-4705-9F73-343A8DE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61896-C3A2-4713-9AA3-CB982864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B02A8-A2C5-46FE-8B63-120C1AA0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65B7C-86E6-4E2C-870B-B4128D13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9F2-438F-45AA-930E-C541D4F6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7A979-D0DA-49EB-93D0-73CA5164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272FD-44CA-4AD9-884C-9CE5889C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4F8F0-7736-4E98-8871-89CD79B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EE08E-2395-40B3-AEB9-3F83E8A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E4079-AA7F-4C94-A85A-5C21112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9052B-B75C-42F9-A1A2-06426BF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B7377-52A1-4228-A48C-B0E74BA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FE507-CDF5-40C4-9692-8268867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4D727-2D4B-46A9-87CE-660D2955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26A19-2312-4915-99EE-1F222EDE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4E4-E4CF-4A18-AE84-D08E10A0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98D43-92F7-41EB-ADC5-E94A12F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185C-70C4-4B62-853E-81A37E1A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2E280-E9AF-4B82-87E0-192EC6C2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1DA4C-C356-4845-BF9B-BB8A5B5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F8B11-238F-462D-9516-657C158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BE834-9329-4714-A227-82E8B04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1C45-854F-4BF9-B527-F4FF73B6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C132D-D5EF-4109-AEE7-7736A7D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59F0D-13CE-46F2-9792-5B41FBC3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052F-3CFB-4E01-996E-689C5132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4EF2-B704-4943-BC41-E57D3559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6BC23-A982-4C0D-B88E-3359F48E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CC0E-885E-49CB-B24C-A9E18B29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799EF-4967-4FA8-80E9-31962B46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E09F9-0D58-499D-9793-06FAF1A2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A557C-FD29-4D88-A54E-75D8B771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CFBDD-7BC5-4F9B-9954-28C4C611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8C5A9-71E6-4E9A-B4AE-B0F722C2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A5E60-ABCD-4002-8B16-139FFBF2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44C52-92CF-4456-AF48-A5179CA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93CF1-BE2E-40D4-89CA-F13E0B3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76E-3042-4469-A82F-52309E46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D2288-CACC-4D4D-823C-E2ABC85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A0BFA-16FF-4E72-92E0-F9BA2D3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F69CA-1BD4-4DBC-B1B7-047F1BE9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54E42-2AB5-4853-9614-51ADDB40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E662B-141B-4B34-8ABB-54C4DAC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46DE-46B5-407A-B974-A65D3DC6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BE7E-9F6E-41A7-98E2-244F097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552A-429C-49E6-9ADC-2FC0270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1784-BD46-4CC4-B07B-9905D44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D6FD-EE43-43C0-BD53-B2570CC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8A8-F775-4652-ACA1-4F4DC8E1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B2D8-DC3C-484F-94A3-2470E73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C4D7-82BE-4A65-829C-7E39E61C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29F7-106E-4B38-AF02-360B867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E76E-A7B4-4731-A5C2-6CC88F32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E6C-F371-4AD5-91B1-48E0BF5A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F160-5590-49ED-B0D3-86CF7F0D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12C5-8992-4A94-BAF4-ECC3A4A1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D692-AECF-4002-8BFA-23777B2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A486-83EC-48A5-8E54-A4F1B449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CAB2-1E54-40B1-96B4-51C2F07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4E4-3E12-4925-A597-883F7A5B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53AA-FA3F-48AB-A2E7-AC02BB30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6A1C-3145-4535-A76C-B60F07AC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BB2F-7E48-42C9-9185-55EB564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84D2-F2B5-4C42-9F62-3331716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19A7-EA6C-49F2-972D-668A066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7938-30B2-4D67-8E76-5711741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86CB-03A9-4BE6-8D8B-4635C79D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0AE8-0A45-4904-8B5C-2C13D690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7559-8E93-40BE-B963-28B6D894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55FB-92A4-45C8-A498-3E8B6D5A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CB5-5FA5-452E-BE9E-01A2B8A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F560-FABB-4E5D-B44D-CD5D4236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374A-64E0-47C2-9351-4853A7FC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01BA-6187-4329-92DA-420E00A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0490-9F20-40FB-A0C0-882A99D1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D2FE-EA33-4CD3-9419-293EF38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BE56-0525-4D82-A62D-5AD2ADD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1339-E4EE-43AB-B38B-6B841D3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07DB-F0A5-4CCB-AC6D-885A110C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75B1-C897-40EA-84B8-215E5890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C094-D689-4273-A146-272D0D1D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ADC-6353-4976-B8A1-0F843A6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D163-F3D4-4FEF-BF63-CE07A5A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04D4-499A-45E8-AB33-90D94BEC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A850-579B-47FB-8F9E-A68A1BB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ED14-4C5B-4E7E-837F-A183CEF6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0B37-AFBD-4BC7-8203-A151989F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AE3D-7C54-4C42-A9A7-B88B8E5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F2D1-C016-4C0C-A494-13CAE0A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7755-FA3E-4DC2-BF9C-2804D20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CACC3-4A2C-4F72-85B2-69102EE5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FDD8-B754-44B2-8D7F-3ACB8783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C0D-D46E-4537-A0D1-D4229AB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6EAA-A0AF-4D9E-A3F5-EF497A24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F32EE-CE68-43A9-B693-DE648EE0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FFD1-68F7-4847-B8D3-960044F8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E6C0-DB56-43E9-94EF-CADE91B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D714-D144-4F20-838C-6C542FD5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015A4-D0B2-4228-B040-AE648E1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3137-682F-4A30-B727-C048E7BE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F1AF-B316-469A-B3ED-305BE4D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6AAA-98E6-49EE-8D4E-19F6C20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BDED-E9E4-4A5B-84D6-66452EF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1A3-06E0-4CC3-9DE1-2E7BC5F4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6AD7C-3CAA-4628-8D08-6283A7A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2C1FB-FAA9-4D41-B074-1412EB60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AEBB1-0D07-4CDF-A694-AD34D6C1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FED06-09B6-4E1F-A0E7-60C36A9F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7DCC-D06D-4556-9139-ED0B4448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C7B89-B8FA-44A1-8C88-718D73DF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33D4-6824-47F9-A2C7-E9171B3C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98A5-8DA3-4A46-B0F8-E223003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A3FD-B0DF-4954-A229-4BF7CD00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6E13-2A6A-4EF7-9886-75BC2C17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8A7-1EB9-402B-821A-6139BBF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D9A9-3DC7-4FAF-BEC7-4C5B772F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C4EFF-9A28-43E7-81A4-08946E8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AA1AA-A4F8-4C8C-AD84-75BCE9FC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96DE-9FE5-46B0-BB10-902AA509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8107-7D59-437D-B419-5E6B30FF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C206-FED4-4720-A3D7-B8522F43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9511-7E85-401A-8921-37F984C2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0A824-3F47-4D1A-BB1A-40D21015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2285-E3A2-4B8E-BA3A-9747005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2F420-1D62-43D4-B538-24FAD82A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CF9-CD72-4326-B60C-4F7692F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1F44E-08C9-4522-A3B3-815B3B4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CB00-9E75-42E1-BA38-2F4DB68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91E4B-1E61-485B-8C4F-0494B222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C8EF-3CB6-4EB8-A651-4E7BA1DB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106F7-FC15-497F-93E5-FAEDCC47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96833-C418-4DDE-BA4A-6A17E854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CC67-57B7-4935-8399-53D9CB13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77907-A448-4379-AE39-BB6124F9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068A4-8CBC-4384-901D-BC538E9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AF80F-E3CE-445D-A96D-880509F3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C1D3-BD26-4CE8-BB35-339195B9D9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54A4-2028-4695-BC79-CBD6649814F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9CD-6775-42DA-8D16-2446E7886F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2549-A8FC-43EC-A852-20719C47533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8088-4FFA-41EC-823F-DA0C3B9B60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0799-8266-495E-8058-310985DE83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B626-630C-48B0-AA7C-C1EC9CD5FB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A56-C824-4DA4-8B95-52414C05B9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5604-E57B-4845-B0E3-317C4F223E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C51-8467-4668-AAE6-0BE0ED49601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315-CBBA-45A2-A4F2-C2C24E3E89C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9EDC-F418-4736-A688-E0879AE21A2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ustangevolution.com/mustang-pictures/cat69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Modèle à suiv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eorgia"/>
              </a:rPr>
              <a:t>Mustang 1968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images.google.ca/url?source=imgres&amp;ct=img&amp;q=http://mustangattitude.com/mustang/1968/1968_00143_01.jpg&amp;usg=AFQjCNERojUSml8UuSD2gw3FppuLkBgPYg"/>
          <p:cNvPicPr/>
          <p:nvPr/>
        </p:nvPicPr>
        <p:blipFill>
          <a:blip r:embed="rId1"/>
          <a:stretch/>
        </p:blipFill>
        <p:spPr>
          <a:xfrm>
            <a:off x="2362320" y="1828800"/>
            <a:ext cx="4267080" cy="273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a vites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2824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 Mustang 1968 est le premier modèle de moteur V6. Aujourd’hui, en 2010, les autos mustangs ont un moteur V8. La vitesse peut aller plus que 200 kilomètres à l’heu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http://images.google.ca/url?source=imgres&amp;ct=img&amp;q=http://c2.api.ning.com/files/zXiKii5t5ttfWeLqIFC2Yo41y*ORZ3ejw2EQVvem2WKqHC3cF3-l4dL5ZzmXPBh7TYHLeLgb5YSwMNT1K20DWnZ2fPnrFMpE/mustang_logo.jpg&amp;usg=AFQjCNG1j1Mz4ZiVTlttJrAUB9fPKYjZGw"/>
          <p:cNvPicPr/>
          <p:nvPr/>
        </p:nvPicPr>
        <p:blipFill>
          <a:blip r:embed="rId1"/>
          <a:stretch/>
        </p:blipFill>
        <p:spPr>
          <a:xfrm>
            <a:off x="419112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’efficacité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fr-CA" sz="2700" spc="-1" strike="noStrike">
                <a:solidFill>
                  <a:srgbClr val="000000"/>
                </a:solidFill>
                <a:latin typeface="Georgia"/>
              </a:rPr>
              <a:t>Le Mustang 1968 fonctionne très bien pendant l’été.  L’hiver il est trop proche du sol alors c’est difficile à conduire.   Cette auto prend beaucoup d’essence alors ça coûte beaucoup d’argent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5" descr="2009 Ford Musta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3809880"/>
            <a:ext cx="3807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a Puissance du Moteu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3444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 puissance du moteur est V6 (6 cylindres) et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20 puissance, cheval vapeu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6 1968                                          V8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8" descr="2004%204"/>
          <p:cNvPicPr/>
          <p:nvPr/>
        </p:nvPicPr>
        <p:blipFill>
          <a:blip r:embed="rId1"/>
          <a:stretch/>
        </p:blipFill>
        <p:spPr>
          <a:xfrm>
            <a:off x="685800" y="3200400"/>
            <a:ext cx="3581280" cy="2679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2010-ford-mustang-gt-i2"/>
          <p:cNvPicPr/>
          <p:nvPr/>
        </p:nvPicPr>
        <p:blipFill>
          <a:blip r:embed="rId2"/>
          <a:stretch/>
        </p:blipFill>
        <p:spPr>
          <a:xfrm>
            <a:off x="5181480" y="3200400"/>
            <a:ext cx="31975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 Qualités Esthétiqu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8" descr="mustang interior 1968"/>
          <p:cNvPicPr/>
          <p:nvPr/>
        </p:nvPicPr>
        <p:blipFill>
          <a:blip r:embed="rId1"/>
          <a:stretch/>
        </p:blipFill>
        <p:spPr>
          <a:xfrm>
            <a:off x="380880" y="14479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621" name="TextBox 9"/>
          <p:cNvSpPr/>
          <p:nvPr/>
        </p:nvSpPr>
        <p:spPr>
          <a:xfrm>
            <a:off x="5638680" y="2057400"/>
            <a:ext cx="335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 Mustang 1968 était t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hic.  L’intérieur avait des sièges en cuir rouge.  Il avait aussi un toit ouvrant.  Il y avait aussi un radio AM avec des hauts parle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’air climatisé était aussi offert dans ce modèle pour la première fois.  Le siège arrière se pliait aus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21:19Z</dcterms:created>
  <dc:creator>alexandra.craik</dc:creator>
  <dc:description/>
  <dc:language>en-US</dc:language>
  <cp:lastModifiedBy>ED18</cp:lastModifiedBy>
  <dcterms:modified xsi:type="dcterms:W3CDTF">2011-10-11T12:45:10Z</dcterms:modified>
  <cp:revision>22</cp:revision>
  <dc:subject/>
  <dc:title>Mustang 68</dc:title>
</cp:coreProperties>
</file>